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move the slide</a:t>
            </a:r>
            <a:endParaRPr b="0" lang="en-US" sz="4400" spc="-1" strike="noStrike">
              <a:solidFill>
                <a:srgbClr val="3366ff"/>
              </a:solidFill>
              <a:latin typeface="Calibri"/>
            </a:endParaRPr>
          </a:p>
        </p:txBody>
      </p:sp>
      <p:sp>
        <p:nvSpPr>
          <p:cNvPr id="4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3CC65-F023-400F-ABD4-51E6715BB0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art of solution may be to develop an ontology for data quality. Develop ontology with respect to quality. Validate with the communi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eed to communicate to end user. Need a clear and consistent model. May not need to communicate the whole model to every user. Communication is part of the challenge. Many different views of quali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eed to set up a decent amount of guidance for user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ok at mappings. Difference between parameterization and mapping. Push parameterization as far as we ca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ok outside of our community – e.g. semantic web community – see what they are doing about communicating.</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velop use cases. Several classes of use case; data producer, several different communities of users. Need to find out what part of the quality model each class needs to see. Need to follow up with users - use cases must be able to distinguish their needs vs their want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ta quality matters to users - concerned about their reput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ta producers cannot know how good the data is for a specific use. Suggested that producers should provide any objective measures of quality that they have. Producers should provide some sort of quantitative statement about errors (n ± 3). Present what is known in a consistent way. A qualitative judgment is better than noting. MODIS data – currently write lots of words about quality. Would be nice if the way that we say certain things had some sort of consistenc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eed to look at: ISO 19157 (Geographic information - Data quality) - currently not complete. Uncertainty Markup Language (UncertML)</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ama has AGU session on ESDR and uncertain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ok and infusion of science technology. Is the methodology different to infusion of data systems technologies? Are there standard techniques that can be used? Need to engage science community.</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Amazon-like approach to collect use feedback. Collect unfiltered user comments. Could also attach user artic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rs can say ‘I used it for this purpose and here is the analysis that I used to come to that conclu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ready have some form of social quality assessment in peer reviewed journals. Typically few papers per data s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 crowd source quality assessment – this comment was helpful / unhelpfu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Earth Science Collaboratory to post not just comments but also the methodolog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t do a cal/val campaign on a custom data product. Impractical due to time / expe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tter of communication. Make sure that the user knows the status of the data that they are get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things that we could do to aid in the assessment – e.g. consistency check with simila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1DE8539-855E-4BCB-83CD-4B325B8204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8"/>
          </p:nvPr>
        </p:nvSpPr>
        <p:spPr/>
        <p:txBody>
          <a:bodyPr/>
          <a:p>
            <a:fld id="{4E9D3466-5CEC-48BD-ABA0-0AA589810C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7EACC3C-27BB-4162-BAA0-358B4A1AFD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33"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2D51D4A-91ED-4832-BF6B-144B3707DB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3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A48C352-76DB-4801-B74B-0A54D6947C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4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08A1372-59F7-4454-B879-968860FB08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45"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375881A-3B13-4597-9DD9-2273159A88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48"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E408897-2350-4AF3-A2FE-27C45B18CD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53"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15159EE-BF5D-4AD5-B69D-FAC1933DB0C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3E79122-A6DF-46F8-B888-C58613EAFF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64"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9DD5909-7E03-4A68-991F-210297379AD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66"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D058E54-759B-4CCB-A4C6-8289BB0C06E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6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7230C21-7FDF-48BE-B89B-D4A257CCAA4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9"/>
          </p:nvPr>
        </p:nvSpPr>
        <p:spPr/>
        <p:txBody>
          <a:bodyPr/>
          <a:p>
            <a:fld id="{84070293-7C84-4702-9F03-10F74D69A3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CFCE7EA-9815-474A-86EF-549F8E6E2B9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73"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D5398C6-DFF4-4834-BC0D-2BD5FA2317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7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1952D4C-4D19-45B3-9C74-0092DA0ED00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8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3D085F0-4B6D-4824-A92E-F179C3B8841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85"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E05692E-B35A-45C4-98EF-0C0EF162DB3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88"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C861537-13BB-4DB6-BC35-891BE892DA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93"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250520C8-7344-4483-A08B-1DF49A520D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FAFC81D-033C-4A3C-9452-D8BF6FA108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0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A69D307-7423-47DF-9526-B8EA8067692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0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4752FFF-20E0-4EE9-BC27-6FFBAFC1FCD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0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D73AA6B-5E56-4BD7-8BCD-04D429E90EA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10"/>
          </p:nvPr>
        </p:nvSpPr>
        <p:spPr/>
        <p:txBody>
          <a:bodyPr/>
          <a:p>
            <a:fld id="{1ABAE512-A8F8-4A89-8850-AE0A205E577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7C92809F-E125-4D02-9969-387D0B15131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1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2711B33-5D65-4F28-8BAC-74D1E6D045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1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409E50B-0C64-4DBB-BCBB-CED77C4001B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5047460-A7B6-4611-A3BB-CE6359E55C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A2FB9-463D-4FAF-AC73-0CBFE3DA2B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F9DE439-8F15-4ECD-9149-B460E97138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30BFC85-F420-4F65-91F0-0C18036DC5D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3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2DD92833-2FE6-429C-9ACF-E81C33F7C9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2ECCDBB-34AE-4855-8C54-1D156623C69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2"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CA5B49B-CFF9-46D2-9501-36F30CBFBA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4"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50A8DC8-F85C-42EC-A1F1-8D3F68987C3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BE51F42-38D2-4C09-A5C7-6E6DE02E95F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11"/>
          </p:nvPr>
        </p:nvSpPr>
        <p:spPr/>
        <p:txBody>
          <a:bodyPr/>
          <a:p>
            <a:fld id="{72B7337D-5F7B-4CA0-853E-4252EE6365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F2F5533-6DB2-41EC-A287-8603651275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5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710C8E6-51B1-4FFD-AA0B-8F71860A69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2"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A1C34E-6A8E-4092-99B6-13415B175A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55"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FD3EA50-CD88-4AB1-BEC6-B91611B3E22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5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510D8BD-C0FE-42AE-960F-DA72B6DE735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63"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B322A3C-C576-4C61-B350-EF5B825768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66"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199F1F3-8E7E-450D-865B-769BACF957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71"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DB85765-364F-4201-BDB9-7D29B59C31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4"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BAAAC25-617B-45B8-9203-D69A25231E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4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03BE4C-D883-4B69-A31D-108640797B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1"/>
          </p:nvPr>
        </p:nvSpPr>
        <p:spPr/>
        <p:txBody>
          <a:bodyPr/>
          <a:p>
            <a:fld id="{9E8742BE-E96D-4429-BD97-A0797419A8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6CE29B9-444E-45B4-81B9-42A505A312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BA3691-2373-4316-A336-FA20B9FB7A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5"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4E703C-421C-4CCF-B9CC-16A55057B2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C728230-40D4-4FB3-8BCF-8264F1F56B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63"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F620D9-6B89-40D7-97F4-E4D0C8E58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66"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D66B51D-751F-4C4A-B973-36D426DC65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71"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021675D-8752-4792-90C6-561337F320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B98C72-A114-4AA3-AAB1-80F6BB5CB5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8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0EBA02-1ADA-437D-B357-29CD44F2E3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8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D09FCD-F486-41D2-9965-B756F79302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8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5003CD6-32F1-483A-82E1-323729AE87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2"/>
          </p:nvPr>
        </p:nvSpPr>
        <p:spPr/>
        <p:txBody>
          <a:bodyPr/>
          <a:p>
            <a:fld id="{EB282EC6-D684-4717-8BDB-6CFE7F6498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A6AB6BD-9AAC-4527-A381-2767B19DEF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9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D47FFC-C3EF-46A5-8AAD-5966DFAEF6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9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34483A-F1ED-460C-9F3D-F2A9E86BD7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0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2ECB41-DB44-49CD-B603-42F3BB3072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0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D4449D-934D-478B-A9E9-9C7435AECA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0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79394D9-A90C-4B53-8271-AB7A143EF9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1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AA0DC97-7D55-4689-BE71-6B727C0E3D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CDA548-FCDB-4AFE-B97B-D463BED1136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2"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B7953ED-0FD5-4061-84C4-D3B36F39E2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4"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7643EB-274D-42C0-9E94-E06934EF7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D47EB25-A415-4961-A774-FE2E208794D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3"/>
          </p:nvPr>
        </p:nvSpPr>
        <p:spPr/>
        <p:txBody>
          <a:bodyPr/>
          <a:p>
            <a:fld id="{7D89A0DD-22F8-44A9-9842-0E97D55150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1872EF9-E774-4D14-859A-55928DA0D2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3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9B6D99-531C-4C0C-8A4E-16EE02DF435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35"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4870CE-6E64-4A79-A342-64C487D8EFC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3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BAFB09E-D034-45A9-BCB1-5052DE5C3AD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43"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786D521-F1CB-4913-A623-9769816F15D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46"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2E92F27-CE3D-4217-9DE3-15487F1077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51"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289283B-A944-4409-A58A-5A2308F6BD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AA7A08-9CBF-4D9A-9F53-003F16BE87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3"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85AAF38-5693-4993-B7C2-0AC79AF14A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5"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76426B-70A4-491C-9A41-CC2733C9036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764F23-9E85-4C28-8D5D-29B9E1EDDA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4"/>
          </p:nvPr>
        </p:nvSpPr>
        <p:spPr/>
        <p:txBody>
          <a:bodyPr/>
          <a:p>
            <a:fld id="{F4CBA220-5CB2-4170-9A1E-717C4FED52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5BD1E7-F265-41BD-99B0-50C812A2EE4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7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BBCD38-91F9-44D4-9092-FE2A39AB65F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7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48F75E-FA18-4DE7-A122-C245949A46F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8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3B0F40-C0C3-4AF0-9EB3-7C9516E51BA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84"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2E4DB0-5023-41B2-A507-9825F140182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87"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1D78668-15C3-4639-8B23-48A0320073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92"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44F2E06-1B52-44D5-A96E-D0D27EC4D4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557C03-E30B-4516-9102-B8A5F8AD31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4"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72AA9A1-4492-4423-9356-270253C248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6"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EBF9B7D-534E-4926-A51C-AA24B4EA2D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24A453F-4CFA-486D-B383-C9D419066F1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5"/>
          </p:nvPr>
        </p:nvSpPr>
        <p:spPr/>
        <p:txBody>
          <a:bodyPr/>
          <a:p>
            <a:fld id="{2D03D8B9-8E23-45F3-BFC7-9CD548DCE4F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DD117E-6BE3-478B-A49F-AA1812A6F1A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13"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2D94C2E-1CA1-4032-8E3B-BE9B63E2CC5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17"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F01FDE-F50F-4304-A515-003DFCB929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21"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FC0D075-6A2C-456A-9E00-D4145F6D7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25"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DFC20E8-C77A-4ED1-8F9A-EA8115A1701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28"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6A806C3-3030-408C-AC5D-BD8DD72F2C1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33"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9FCD678-40C6-4ED1-B46D-C44FE32708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8E9743-EA91-4872-A989-B00E90AE6A3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5"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786FD1-1E10-451D-8FDE-8279CC33BF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7"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F0DCAB-64C6-446B-8488-40392589E9F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49"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22E6399-48EC-44F4-A62C-5607BEC06B1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6"/>
          </p:nvPr>
        </p:nvSpPr>
        <p:spPr/>
        <p:txBody>
          <a:bodyPr/>
          <a:p>
            <a:fld id="{157FB84A-C14E-4C49-B9B4-F67EF44A41B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F49634A-40DB-4B66-8742-02B6F259AA9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54"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800EB8C-CD8A-4ABD-9EF8-91AF33E1B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16"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5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A840D6C-610F-49CA-B104-EA6186C457D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6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01A70C-B838-4946-989E-E8AE0B4A709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66"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158713A-617F-4F35-94B6-9EB38D2405E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6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DCCF06C-A4A7-4150-9647-66DDC81D33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74"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0F4282A-2E8C-4055-A0C7-45B825D81C4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0206E96-B1CF-429A-90B8-26BD4C987E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85"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DBAF636-5717-40B7-A511-8299323634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87"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1708193-FF0E-47A2-94BA-9376857058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89"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B82E0F3-191E-4FB9-9671-23E9A9642E5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 name="PlaceHolder 2"/>
          <p:cNvSpPr>
            <a:spLocks noGrp="1"/>
          </p:cNvSpPr>
          <p:nvPr>
            <p:ph type="sldNum" idx="7"/>
          </p:nvPr>
        </p:nvSpPr>
        <p:spPr/>
        <p:txBody>
          <a:bodyPr/>
          <a:p>
            <a:fld id="{40F3F6AA-EE13-471A-BE98-D9F801B07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0"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3760"/>
            <a:ext cx="8229600" cy="3776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E5A845F-F7FA-4F9D-8420-3596F71E4B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94"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A016CF3-B674-450B-AC21-72544420490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298" name="PlaceHolder 2"/>
          <p:cNvSpPr>
            <a:spLocks noGrp="1"/>
          </p:cNvSpPr>
          <p:nvPr>
            <p:ph/>
          </p:nvPr>
        </p:nvSpPr>
        <p:spPr>
          <a:xfrm>
            <a:off x="457200" y="1022040"/>
            <a:ext cx="40158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4"/>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F8EFB9F-733A-4620-B044-2F08C5F6E9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02"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5992E3A-6EA5-4C63-B0D6-04294D850ED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06" name="PlaceHolder 2"/>
          <p:cNvSpPr>
            <a:spLocks noGrp="1"/>
          </p:cNvSpPr>
          <p:nvPr>
            <p:ph/>
          </p:nvPr>
        </p:nvSpPr>
        <p:spPr>
          <a:xfrm>
            <a:off x="457200" y="102204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57200" y="3808080"/>
            <a:ext cx="822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DBB8E38-FB3E-44A1-9EEB-54A161CDFB3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09" name="PlaceHolder 2"/>
          <p:cNvSpPr>
            <a:spLocks noGrp="1"/>
          </p:cNvSpPr>
          <p:nvPr>
            <p:ph/>
          </p:nvPr>
        </p:nvSpPr>
        <p:spPr>
          <a:xfrm>
            <a:off x="45720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02204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5"/>
          <p:cNvSpPr>
            <a:spLocks noGrp="1"/>
          </p:cNvSpPr>
          <p:nvPr>
            <p:ph/>
          </p:nvPr>
        </p:nvSpPr>
        <p:spPr>
          <a:xfrm>
            <a:off x="4674240" y="3808080"/>
            <a:ext cx="40158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F3740E51-71B9-4417-8DB9-59D6E409E0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14" name="PlaceHolder 2"/>
          <p:cNvSpPr>
            <a:spLocks noGrp="1"/>
          </p:cNvSpPr>
          <p:nvPr>
            <p:ph/>
          </p:nvPr>
        </p:nvSpPr>
        <p:spPr>
          <a:xfrm>
            <a:off x="45720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323964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4"/>
          <p:cNvSpPr>
            <a:spLocks noGrp="1"/>
          </p:cNvSpPr>
          <p:nvPr>
            <p:ph/>
          </p:nvPr>
        </p:nvSpPr>
        <p:spPr>
          <a:xfrm>
            <a:off x="6022080" y="102204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5"/>
          <p:cNvSpPr>
            <a:spLocks noGrp="1"/>
          </p:cNvSpPr>
          <p:nvPr>
            <p:ph/>
          </p:nvPr>
        </p:nvSpPr>
        <p:spPr>
          <a:xfrm>
            <a:off x="45720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6"/>
          <p:cNvSpPr>
            <a:spLocks noGrp="1"/>
          </p:cNvSpPr>
          <p:nvPr>
            <p:ph/>
          </p:nvPr>
        </p:nvSpPr>
        <p:spPr>
          <a:xfrm>
            <a:off x="323964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7"/>
          <p:cNvSpPr>
            <a:spLocks noGrp="1"/>
          </p:cNvSpPr>
          <p:nvPr>
            <p:ph/>
          </p:nvPr>
        </p:nvSpPr>
        <p:spPr>
          <a:xfrm>
            <a:off x="6022080" y="3808080"/>
            <a:ext cx="26496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AD5B802-6DBB-4E1A-84C7-AE84F10F24F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1532099-7B64-4CFC-BD6B-08FC0588A4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4" name="PlaceHolder 2"/>
          <p:cNvSpPr>
            <a:spLocks noGrp="1"/>
          </p:cNvSpPr>
          <p:nvPr>
            <p:ph type="subTitle"/>
          </p:nvPr>
        </p:nvSpPr>
        <p:spPr>
          <a:xfrm>
            <a:off x="457200" y="1022040"/>
            <a:ext cx="82296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8EF2A1E-D600-4CA5-8854-92DCED32C6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66ff"/>
              </a:solidFill>
              <a:latin typeface="Calibri"/>
            </a:endParaRPr>
          </a:p>
        </p:txBody>
      </p:sp>
      <p:sp>
        <p:nvSpPr>
          <p:cNvPr id="326" name="PlaceHolder 2"/>
          <p:cNvSpPr>
            <a:spLocks noGrp="1"/>
          </p:cNvSpPr>
          <p:nvPr>
            <p:ph/>
          </p:nvPr>
        </p:nvSpPr>
        <p:spPr>
          <a:xfrm>
            <a:off x="457200" y="1022040"/>
            <a:ext cx="82296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FD827AB-914F-491C-ACF7-EE1CD78221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36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2" name="PlaceHolder 3"/>
          <p:cNvSpPr>
            <a:spLocks noGrp="1"/>
          </p:cNvSpPr>
          <p:nvPr>
            <p:ph type="sldNum" idx="9"/>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2D63E-B2C7-42F4-8F4F-BFBB67B75F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400"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1" name="PlaceHolder 3"/>
          <p:cNvSpPr>
            <a:spLocks noGrp="1"/>
          </p:cNvSpPr>
          <p:nvPr>
            <p:ph type="sldNum" idx="10"/>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B9861-C6CB-4DC0-9932-8598D72EA68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439"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0" name="PlaceHolder 3"/>
          <p:cNvSpPr>
            <a:spLocks noGrp="1"/>
          </p:cNvSpPr>
          <p:nvPr>
            <p:ph type="sldNum" idx="11"/>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991AF-44D9-4F32-B6A2-F2985317E85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39"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sldNum" idx="1"/>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F4D58-4C11-4C4B-816F-360619C39EB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80"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sldNum" idx="2"/>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7f7f7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B055A-455E-4507-9F63-F460D499D3C6}" type="slidenum">
              <a:rPr b="0" lang="en-US" sz="1200" spc="-1" strike="noStrike">
                <a:solidFill>
                  <a:srgbClr val="7f7f7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119"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 name="PlaceHolder 3"/>
          <p:cNvSpPr>
            <a:spLocks noGrp="1"/>
          </p:cNvSpPr>
          <p:nvPr>
            <p:ph type="sldNum" idx="3"/>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2A9BF-6BC0-4F53-B556-D9EF6291C2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160"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1" name="PlaceHolder 3"/>
          <p:cNvSpPr>
            <a:spLocks noGrp="1"/>
          </p:cNvSpPr>
          <p:nvPr>
            <p:ph type="sldNum" idx="4"/>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2AB9C-7E4B-4D76-AC64-10CEE78C8E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20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2" name="PlaceHolder 3"/>
          <p:cNvSpPr>
            <a:spLocks noGrp="1"/>
          </p:cNvSpPr>
          <p:nvPr>
            <p:ph type="sldNum" idx="5"/>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95078-5FD8-4EE4-9D93-CE91ADE24E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Line 9"/>
          <p:cNvSpPr/>
          <p:nvPr/>
        </p:nvSpPr>
        <p:spPr>
          <a:xfrm>
            <a:off x="0" y="83808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242"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3" name="PlaceHolder 3"/>
          <p:cNvSpPr>
            <a:spLocks noGrp="1"/>
          </p:cNvSpPr>
          <p:nvPr>
            <p:ph type="sldNum" idx="6"/>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46251-648B-4891-AC8D-D8E41ACB50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9"/>
          <p:cNvSpPr/>
          <p:nvPr/>
        </p:nvSpPr>
        <p:spPr>
          <a:xfrm>
            <a:off x="0" y="6477120"/>
            <a:ext cx="9144000" cy="0"/>
          </a:xfrm>
          <a:prstGeom prst="line">
            <a:avLst/>
          </a:prstGeom>
          <a:ln cap="sq"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282"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sldNum" idx="7"/>
          </p:nvPr>
        </p:nvSpPr>
        <p:spPr>
          <a:xfrm>
            <a:off x="6552720" y="646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42102-5FAD-4313-97C3-FF1BF6C8CD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3760"/>
            <a:ext cx="8229600" cy="814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Calibri"/>
              </a:rPr>
              <a:t>Click to edit the title text format</a:t>
            </a:r>
            <a:endParaRPr b="0" lang="en-US" sz="4400" spc="-1" strike="noStrike">
              <a:solidFill>
                <a:srgbClr val="3366ff"/>
              </a:solidFill>
              <a:latin typeface="Calibri"/>
            </a:endParaRPr>
          </a:p>
        </p:txBody>
      </p:sp>
      <p:sp>
        <p:nvSpPr>
          <p:cNvPr id="321" name="PlaceHolder 2"/>
          <p:cNvSpPr>
            <a:spLocks noGrp="1"/>
          </p:cNvSpPr>
          <p:nvPr>
            <p:ph type="body"/>
          </p:nvPr>
        </p:nvSpPr>
        <p:spPr>
          <a:xfrm>
            <a:off x="457200" y="10220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2" name="PlaceHolder 3"/>
          <p:cNvSpPr>
            <a:spLocks noGrp="1"/>
          </p:cNvSpPr>
          <p:nvPr>
            <p:ph type="sldNum" idx="8"/>
          </p:nvPr>
        </p:nvSpPr>
        <p:spPr>
          <a:xfrm>
            <a:off x="6552720" y="64692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2F832-D8D1-4733-9A3B-16D2010BB51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alibri"/>
              </a:rPr>
              <a:t>Technology Infusion for the Decadal Survey Era: </a:t>
            </a:r>
            <a:br>
              <a:rPr sz="2400"/>
            </a:br>
            <a:r>
              <a:rPr b="1" lang="en-US" sz="2400" spc="-1" strike="noStrike">
                <a:solidFill>
                  <a:srgbClr val="3366ff"/>
                </a:solidFill>
                <a:latin typeface="Calibri"/>
              </a:rPr>
              <a:t>Data Quality Capability Needs</a:t>
            </a:r>
            <a:endParaRPr b="0" lang="en-US" sz="2400" spc="-1" strike="noStrike">
              <a:solidFill>
                <a:srgbClr val="3366ff"/>
              </a:solidFill>
              <a:latin typeface="Calibri"/>
            </a:endParaRPr>
          </a:p>
        </p:txBody>
      </p:sp>
      <p:sp>
        <p:nvSpPr>
          <p:cNvPr id="485"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sed on information derived from the NASA Technology Infusion Working Group's decadal survey mission use cases, this session will explore candidate technologies and infusion strategies that could be applied to meet the technology needs of data systems for the decadal survey era missions.</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focus on three key challenges arising from the use cases that relate to Data Quality:</a:t>
            </a:r>
            <a:endParaRPr b="0" lang="en-US" sz="24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to communicate a clear, consistent, coherent model / terminology for Data Quality to the user community</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to develop a community consensus on the quality of datasets</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ssing the quality of custom data products (on demand)</a:t>
            </a:r>
            <a:endParaRPr b="0" lang="en-US" sz="2000" spc="-1" strike="noStrike">
              <a:solidFill>
                <a:srgbClr val="000000"/>
              </a:solidFill>
              <a:latin typeface="Calibri"/>
            </a:endParaRPr>
          </a:p>
        </p:txBody>
      </p:sp>
      <p:sp>
        <p:nvSpPr>
          <p:cNvPr id="486" name="TextBox 5"/>
          <p:cNvSpPr/>
          <p:nvPr/>
        </p:nvSpPr>
        <p:spPr>
          <a:xfrm>
            <a:off x="8510760" y="98568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Example Infusion Strategy: Local Space/Time Search</a:t>
            </a:r>
            <a:endParaRPr b="0" lang="en-US" sz="2800" spc="-1" strike="noStrike">
              <a:solidFill>
                <a:srgbClr val="3366ff"/>
              </a:solidFill>
              <a:latin typeface="Calibri"/>
            </a:endParaRPr>
          </a:p>
        </p:txBody>
      </p:sp>
      <p:sp>
        <p:nvSpPr>
          <p:cNvPr id="488"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usion of space/time search into processing workflow to prepare, discover, access, and stage local data.</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cases: need internal access to locally staged geospatial data within a data system</a:t>
            </a:r>
            <a:endParaRPr b="0" lang="en-US" sz="24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MAP: look up locally staged ECMWF models and DEMs as ancillary geospatial data needed for workflow processing</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SAR processing: look up relevant raw frame (Level-0) data to generate swaths to form SLCs and then geocoded interferogram.</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ypical steps for infusion of a space/time search technology</a:t>
            </a:r>
            <a:endParaRPr b="0" lang="en-US" sz="24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ss local data for available geospatial metadata</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tup data ingestion mechanism into search system</a:t>
            </a:r>
            <a:endParaRPr b="0" lang="en-US" sz="2000" spc="-1" strike="noStrike">
              <a:solidFill>
                <a:srgbClr val="000000"/>
              </a:solidFill>
              <a:latin typeface="Calibri"/>
            </a:endParaRPr>
          </a:p>
          <a:p>
            <a:pPr lvl="2" marL="1143000" indent="-228600">
              <a:lnSpc>
                <a:spcPct val="90000"/>
              </a:lnSpc>
              <a:spcBef>
                <a:spcPts val="337"/>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etadata extraction and data storage</a:t>
            </a:r>
            <a:endParaRPr b="0" lang="en-US" sz="18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tup query interface mechanism with constraints for space + time and perhaps keyword</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trieve data based on metadata search results.</a:t>
            </a:r>
            <a:endParaRPr b="0" lang="en-US" sz="20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tage found data for processing workflo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Example Infusion Strategy: Data Quality Model</a:t>
            </a:r>
            <a:endParaRPr b="0" lang="en-US" sz="2800" spc="-1" strike="noStrike">
              <a:solidFill>
                <a:srgbClr val="3366ff"/>
              </a:solidFill>
              <a:latin typeface="Calibri"/>
            </a:endParaRPr>
          </a:p>
        </p:txBody>
      </p:sp>
      <p:sp>
        <p:nvSpPr>
          <p:cNvPr id="490"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to communicate a clear, consistent, coherent model / terminology for Data Quality to the user community</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cases: need to address communication of data quality model with community</a:t>
            </a:r>
            <a:endParaRPr b="0" lang="en-US" sz="24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Producer: need to articulate ‘clear quality’ for accuracy (this is hard to determine); SMAP example (objective meas of DQ); known errors in measurements (but not how users use the info)</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rs: application/edu use case to determine what part of the quality model they need to see (a huge number of cases needed)</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ypical steps for infusion of a semantic web based approach</a:t>
            </a:r>
            <a:endParaRPr b="0" lang="en-US" sz="24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valuate technology like UncertaintyML</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velop lots of use cases to cover variation in needs (user/producer); be sure to capture all that the producers can determine</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istill into ontology, terminology (hierarchy of uncertainty)</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municate to user community – training; explore methods to communicate with science community on ‘science technology’ (no forum exists across disciplines for evaluation)</a:t>
            </a:r>
            <a:endParaRPr b="0" lang="en-US" sz="20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Example Infusion Strategy: Dataset Quality</a:t>
            </a:r>
            <a:endParaRPr b="0" lang="en-US" sz="2800" spc="-1" strike="noStrike">
              <a:solidFill>
                <a:srgbClr val="3366ff"/>
              </a:solidFill>
              <a:latin typeface="Calibri"/>
            </a:endParaRPr>
          </a:p>
        </p:txBody>
      </p:sp>
      <p:sp>
        <p:nvSpPr>
          <p:cNvPr id="492"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to develop a community consensus on the quality of datasets</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cases: need to address how to define and then acquire dataset quality via community consensus</a:t>
            </a:r>
            <a:endParaRPr b="0" lang="en-US" sz="24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Producer: ?</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rs: capture how user uses dataset for a specific purpose and how well (quality) it worked (a social-based quality measure); examples of comments and what you learn about them; determine value of assessing relevancy of comments</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ypical steps for infusion of a collaboration/social media approach</a:t>
            </a:r>
            <a:endParaRPr b="0" lang="en-US" sz="24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66ff"/>
                </a:solidFill>
                <a:latin typeface="Calibri"/>
              </a:rPr>
              <a:t>custom data products</a:t>
            </a:r>
            <a:endParaRPr b="0" lang="en-US" sz="2800" spc="-1" strike="noStrike">
              <a:solidFill>
                <a:srgbClr val="3366ff"/>
              </a:solidFill>
              <a:latin typeface="Calibri"/>
            </a:endParaRPr>
          </a:p>
        </p:txBody>
      </p:sp>
      <p:sp>
        <p:nvSpPr>
          <p:cNvPr id="494" name="PlaceHolder 2"/>
          <p:cNvSpPr>
            <a:spLocks noGrp="1"/>
          </p:cNvSpPr>
          <p:nvPr>
            <p:ph/>
          </p:nvPr>
        </p:nvSpPr>
        <p:spPr>
          <a:xfrm>
            <a:off x="457200" y="1022040"/>
            <a:ext cx="8229600" cy="5334120"/>
          </a:xfrm>
          <a:prstGeom prst="rect">
            <a:avLst/>
          </a:prstGeom>
          <a:noFill/>
          <a:ln w="0">
            <a:noFill/>
          </a:ln>
        </p:spPr>
        <p:txBody>
          <a:bodyPr anchor="t">
            <a:normAutofit/>
          </a:bodyPr>
          <a:p>
            <a:pPr marL="343080" indent="-3430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assess the quality of custom (e.g. on demand) data produ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3:58:28Z</dcterms:created>
  <dc:creator/>
  <dc:description/>
  <cp:keywords/>
  <dc:language>en-US</dc:language>
  <cp:lastModifiedBy>Authorized User</cp:lastModifiedBy>
  <dcterms:modified xsi:type="dcterms:W3CDTF">2011-07-29T16:22:43Z</dcterms:modified>
  <cp:revision>18</cp:revision>
  <dc:subject/>
  <dc:title>Example Infusion Strategy: Local Space/Time Search</dc:title>
</cp:coreProperties>
</file>